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0EE-2317-4BA0-AD8B-89A9A825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3096-40F9-47BC-A2F6-4ECFA8DF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7331-971D-43E8-8B08-FD2ACC55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99E-E75D-429F-B085-28BECA99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D280-FE9B-404E-AA1A-C127A526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8A2A-8614-4740-BA92-2D1348E0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7CE6-5185-488D-B704-C8176921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B9E5-BE09-434C-88BA-604583F2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301-EBBD-488D-B751-B92ECFEE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A29-B411-4D85-AA43-79936C50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29F4-739D-483B-B446-31115D52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016-8D00-4847-97A7-60D715E7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B17D-6085-414E-B147-8CFD079C7EF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ilm"/>
          <p:cNvSpPr/>
          <p:nvPr/>
        </p:nvSpPr>
        <p:spPr>
          <a:xfrm>
            <a:off x="2448000" y="0"/>
            <a:ext cx="5364000" cy="6858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920" y="195228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OG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27280" y="873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DŻYWI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84720" y="5373720"/>
            <a:ext cx="3851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OZAJELITOWĄ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Całkowite zapotrzebowanie energetyczne (CZE)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CZE= SZE x A x U x T</a:t>
            </a:r>
            <a:br>
              <a:rPr sz="27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gdzie: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A- aktywność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U- uraz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T- tempera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260280"/>
          <a:ext cx="8135280" cy="5813280"/>
        </p:xfrm>
        <a:graphic>
          <a:graphicData uri="http://schemas.openxmlformats.org/drawingml/2006/table">
            <a:tbl>
              <a:tblPr/>
              <a:tblGrid>
                <a:gridCol w="4567680"/>
                <a:gridCol w="356760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spółczynn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ywność chor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ry leżą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ry częściowo unieruchomi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ry w pełni aktyw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 chor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epowikł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 operacji lub  choroba nowotworo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łam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ocz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palenie otrzew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az mnog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az mnogi i posocz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rzenie 30- 5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rzenie  50- 7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arzenie 70- 9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38</a:t>
                      </a:r>
                      <a:r>
                        <a:rPr b="0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r>
                        <a:rPr b="0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r>
                        <a:rPr b="0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0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r>
                        <a:rPr b="0" lang="pl-PL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250920" y="6308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ela 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rtości współczynników kataboliczny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PRAKTYKA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W praktyce średnie  zapotrzebowanie energetyczne określa się według tzw. „szybkiej metody” przyjmującej odpowiednio: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25 -35kcal/kg m.c./dob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ŁÓWNE SUBSTRATY ENERGETYCZNE: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węglowodan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warunki fizjologiczne)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tłuszc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warunki fizjologiczne)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białk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awaryjne źródło energii, gdyż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głównym ich zadaniem jest udział w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syntezie nowych białek ustrojowych i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odnowie uszkodzonych tkan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ndardowy program żywienia pozajelitowego, w którym 100% zapotrzebowania energetycznego (energia bezbiałkowa) pokrywa odpowiednio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Glukoza                        50- 65% energii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Emulsja tłuszczowa    35- 50% energi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Zalecana dobowa podaż na dobę: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emulsji tłuszczowej wynosi: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1-2g/ kg m.c.   dla dorosł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do 3g/ kg m.c. dla dzieci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glukozy wynosi:                  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4-7g/ kg m.c. dla dorosł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8-15g/ kg m.c. dla dzie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dobowa podaż tłuszczu w [g] wg. wzoru;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całkowita podaż energii (kcal) × % energii w postaci tłuszczu</a:t>
            </a:r>
            <a:br>
              <a:rPr sz="1600"/>
            </a:b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=   podaż tłuszczu [g]</a:t>
            </a:r>
            <a:br>
              <a:rPr sz="1600"/>
            </a:b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                                  100 × 9,1</a:t>
            </a:r>
            <a:br>
              <a:rPr sz="1600"/>
            </a:br>
            <a:br>
              <a:rPr sz="16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dobowa podaż glukozy w [g] wg. wzoru:</a:t>
            </a:r>
            <a:br>
              <a:rPr sz="2800"/>
            </a:br>
            <a:br>
              <a:rPr sz="1600"/>
            </a:b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całkowita podaż energii (kcal) × % energii w postaci glukozy</a:t>
            </a:r>
            <a:br>
              <a:rPr sz="1600"/>
            </a:b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=  podaż glukozy  [g]</a:t>
            </a:r>
            <a:br>
              <a:rPr sz="1600"/>
            </a:b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                            100 × 3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7280" y="3176640"/>
            <a:ext cx="61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58560" y="4834080"/>
            <a:ext cx="604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Przykład 1 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Dorosły mężczyzna w wieku 20 lat, wzrost 170 cm, masa ciała 60 kg  leżący w łóżku, po operacji chirurgicznej (częściowa resekcja żołądka), temperatura ciała 37,5ºC.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S.Z.E. = 66,47 + ( 13,7 × 60 ) + ( 5 × 170 ) - ( 6,8 × 20 ) = 1602 kcal/ d </a:t>
            </a:r>
            <a:br>
              <a:rPr sz="2400"/>
            </a:b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C.Z.E. = 1602 × 1 × 1,1 × 1.1 = </a:t>
            </a:r>
            <a:r>
              <a:rPr b="1" i="1" lang="pl-PL" sz="2400" spc="-1" strike="noStrike">
                <a:solidFill>
                  <a:srgbClr val="ff5050"/>
                </a:solidFill>
                <a:latin typeface="Arial"/>
              </a:rPr>
              <a:t>1900 kcal/ d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30 kcal/ kg m.c.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1900 kcal = 100% c.z.e.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                 35% emulsja tłuszczowa                                      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                 65% gluko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owa podaż tłuszczu w [g]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00 kcal x 35 %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=   73g tłuszczu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910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73g  /  60kg =     1,2g /kg mc/ dobę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95280" y="342900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owa podaż glukozy w [g]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00 kcal x  65%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=  329,3g glukozy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375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29,3 / 60 kg= 5,4g  kg mc/ dobę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86920" y="3968640"/>
            <a:ext cx="33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pl-PL" sz="2800" spc="-1" strike="noStrike" u="sng">
                <a:solidFill>
                  <a:srgbClr val="990000"/>
                </a:solidFill>
                <a:uFillTx/>
                <a:latin typeface="Arial"/>
              </a:rPr>
              <a:t>Żywienie pozajelitowe (ż.p.)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polega na podaniu bezpośrednio do układu krążenia substancji odżywczych w postaci w jakiej są one wchłaniane z przewodu pokarmowego, a więc: aminokwasów, cukrów prostych, kwasów tłuszczowych, elektrolitów, witamin rozpuszczalnych w wodzie i tłuszczach, pierwiastków śladowych i w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5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5400"/>
            </a:b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Zapotrzebowanie na białko.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Podstawowe zapotrzebowanie na białko, zdrowego dorosłego człowieka wynosi: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                    0,8 -1 g/kg m.c./dobę.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Zapotrzebowanie na białko u chorych dorosłych wzrasta i średnio wynosi: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                    1.2- 1.5g/ kg m.c./d           max do 2g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5400"/>
            </a:b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Bilans azotowy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 bilans= N g przyswojony – N g wydalony</a:t>
            </a:r>
            <a:br>
              <a:rPr sz="2800"/>
            </a:br>
            <a:br>
              <a:rPr sz="2800"/>
            </a:b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liczanie ilości azotu wydalonego z organizmu :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. z dobowej zbiórki moczu oznaczenie wydalania azotu mocznika (wynik z laboratorium)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. dodanie stałej liczby (1.5g N) na pozostałe straty azotu przez nerki (kreatynina, amoniak, kwas moczowy) oraz 1.5g N na pozostałe straty: ze stolcem, złuszczającym się naskórkiem, odrastające płytki paznokci, włos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5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54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Roztwory aminokwasów częściej skalowane są w gramach azotu (N) na litr, dlatego łatwiej posługiwać się nie masą podawanych aminokwasów, lecz ilością podawanego azotu (wyrażoną w gramach). Pamiętając, że: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pl-PL" sz="2600" spc="-1" strike="noStrike">
                <a:solidFill>
                  <a:srgbClr val="ff5050"/>
                </a:solidFill>
                <a:latin typeface="Arial"/>
              </a:rPr>
              <a:t>1 [g] azotu = 6.25 g białka (aminokwasów)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podstawowe zapotrzebowanie na białko  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0.11g N/ kg m.c./dobę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dobę u chorych katabolicznych  0.24gN/ kg m.c./ dobę 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u chorych hiperkatabolicznych  0.3g N/ kg m.c./ dob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la właściwego wykorzystania białka (aminokwasy podane drogą dożylną powinny zostać zużyte do syntezy białek i budowy nowej tkanki) niezbędna jest adekwatna podaż kalorii niebiałkowych. Prawidłowe proporcje między podażą kalorii niebiałkowych i białek wyznacza  wskaźnik kalorii niebiałkowych (współczynnik Q), a jego optymalna wartość  powinna mieścić  się w granicach: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Q= 130- 180 kcal/ 1 g azotu</a:t>
            </a:r>
            <a:br>
              <a:rPr sz="2800"/>
            </a:b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              Q = CZE (kcal) / Azot (g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nając wartość całkowitego zapotrzebowania energetycznego (CZE) oraz prawidłową wartość współczynnika Q można w łatwy sposób obliczyć zapotrzebowanie na białko (azot)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Białko (g) =  CZE (kcal) / 150 </a:t>
            </a:r>
            <a:r>
              <a:rPr b="1" i="1" lang="en-US" sz="2800" spc="-1" strike="noStrike">
                <a:solidFill>
                  <a:srgbClr val="ff5050"/>
                </a:solidFill>
                <a:latin typeface="Symbol"/>
                <a:ea typeface="Symbol"/>
              </a:rPr>
              <a:t>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 (25)   x   6.25g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Przykład 1 cd.</a:t>
            </a:r>
            <a:br>
              <a:rPr sz="24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Dobowe zapotrzebowanie na białko: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0,2g N   x   60 kg =  12g N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Q  = 1900 kcal  /  12 g N =  158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75g białka / 60 kg     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1,25g białka/  kg m.c./ dobę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1900 kcal   / 150   = 12.6g N             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  12.6g N x 6.26g= 79g białka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Wynik z laboratorium :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N mocznika w moczu = 11g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N bilans = 12,6g  - (11g  + 3g) = - 2,6 g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potrzebowanie na białko i energię u dzieci</a:t>
            </a:r>
            <a:br>
              <a:rPr sz="2400"/>
            </a:br>
            <a:br>
              <a:rPr sz="2400"/>
            </a:br>
            <a:r>
              <a:rPr b="1" i="1" lang="pl-PL" sz="2200" spc="-1" strike="noStrike">
                <a:solidFill>
                  <a:srgbClr val="000000"/>
                </a:solidFill>
                <a:latin typeface="Arial"/>
              </a:rPr>
              <a:t>Wiek                Energia (kcal/kg mc/d)          Aminokwasy (g/kg mc/d)</a:t>
            </a:r>
            <a:br>
              <a:rPr sz="2200"/>
            </a:br>
            <a:br>
              <a:rPr sz="2200"/>
            </a:b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Wcześniaki                     150- 120                                      3.0- 2.5                                   </a:t>
            </a:r>
            <a:br>
              <a:rPr sz="2200"/>
            </a:br>
            <a:r>
              <a:rPr b="1" i="1" lang="pl-PL" sz="2200" spc="-1" strike="noStrike">
                <a:solidFill>
                  <a:srgbClr val="000000"/>
                </a:solidFill>
                <a:latin typeface="Arial"/>
              </a:rPr>
              <a:t>Niemowlęta                    120- 90                                       3.0- 2.0</a:t>
            </a:r>
            <a:br>
              <a:rPr sz="2200"/>
            </a:br>
            <a:r>
              <a:rPr b="1" i="1" lang="pl-PL" sz="2200" spc="-1" strike="noStrike">
                <a:solidFill>
                  <a:srgbClr val="000000"/>
                </a:solidFill>
                <a:latin typeface="Arial"/>
              </a:rPr>
              <a:t>Dzieci </a:t>
            </a:r>
            <a:br>
              <a:rPr sz="2200"/>
            </a:br>
            <a:r>
              <a:rPr b="1" i="1" lang="pl-PL" sz="2200" spc="-1" strike="noStrike">
                <a:solidFill>
                  <a:srgbClr val="000000"/>
                </a:solidFill>
                <a:latin typeface="Arial"/>
              </a:rPr>
              <a:t>1- 7r.ż                              90- 75                                         2.5- 2.0</a:t>
            </a:r>
            <a:br>
              <a:rPr sz="2200"/>
            </a:br>
            <a:r>
              <a:rPr b="1" i="1" lang="pl-PL" sz="2200" spc="-1" strike="noStrike">
                <a:solidFill>
                  <a:srgbClr val="000000"/>
                </a:solidFill>
                <a:latin typeface="Arial"/>
              </a:rPr>
              <a:t>8- 12 r.ż.                          75- 60                                         2.0- 1.5</a:t>
            </a:r>
            <a:br>
              <a:rPr sz="2200"/>
            </a:br>
            <a:r>
              <a:rPr b="1" i="1" lang="pl-PL" sz="2200" spc="-1" strike="noStrike">
                <a:solidFill>
                  <a:srgbClr val="000000"/>
                </a:solidFill>
                <a:latin typeface="Arial"/>
              </a:rPr>
              <a:t>13- 18 r.ż.                        60- 30                                         2.1- 1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Zapotrzebowanie na wodę i elektrolity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apotrzebowanie na wodę u dorosłych oblicza się według poniższych wzorów: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30 ml x masa ciała w kg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 ml x kcal/ dobę.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daż wody należy, obliczyć w oparciu o dobowy bilans płynów w którym podaż powinna odpowiadać star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W czasie żywienia pozajelitowego należy podawać wszystkie elektrolity (uwzględniając ilość zawartą standardowo w roztworach aminokwasów), w oparciu o ich stężenie w surowicy krwi i moczu.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Średnie dobowe zapotrzebowanie na elektrolity: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Sód    (Na)             60- 80 mEq</a:t>
            </a:r>
            <a:br>
              <a:rPr sz="2800"/>
            </a:b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Potas (K)               30- 60 mEq</a:t>
            </a:r>
            <a:br>
              <a:rPr sz="2800"/>
            </a:b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Wapń (Ca)             4.6- 9.2 mEq</a:t>
            </a:r>
            <a:br>
              <a:rPr sz="2800"/>
            </a:b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Magnez (Mg)         8.1- 20 mEq</a:t>
            </a:r>
            <a:br>
              <a:rPr sz="2800"/>
            </a:b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Fosforany (Pi)      12- 20 m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Zapotrzebowanie na witaminy i pierwiastki śladowe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 trakcie żywienia pozajelitowego codziennie (począwszy od pierwszej doby) należy podawać witaminy i pierwiastki śladowe. Obecnie na rynku dostępne są preparaty zawierające w swym składzie podstawowe dobowe zapotrzebowanie organizmu na witaminy i pierwiastki śladowe dla dorosłych i dzieci, oraz preparaty wybranych składników w zależności od stwierdzanych niedobor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Cele żywienia pozajelitowego: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bezpośredni- utrzymanie lub poprawa 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stanu odżywienia, zapobieganie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rozwojowi  niedożywienia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nadrzędny- wyleczeni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 gdy leczenie żywieniowe jest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podejmowane ze wskazań przewlekłych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utrzymanie chorego przy życi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600" spc="-1" strike="noStrike" u="sng">
                <a:solidFill>
                  <a:srgbClr val="ff0000"/>
                </a:solidFill>
                <a:uFillTx/>
                <a:latin typeface="Arial"/>
              </a:rPr>
              <a:t>Nadzór metaboliczny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1.Ocena równowagi kwasowo- zasadowej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2.Ocena gospodarki wodno- elektrolitowej ( ocena stężenia elektrolitów w surowicy krwi i w moczu, osmolarność surowicy i moczu)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3.Ocena gospodarki węglowodanowo- tłuszczowej                      (stężenie glukozy we krwi i ewentualną glikozurię, stężenie triglicerydów i cholesterolu)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4.Ocena gospodarki białkowej  (stężenie białka całkowitego, albumin, mocznika w surowicy krwi, wydalania w moczu substancji azotowych, </a:t>
            </a:r>
            <a:r>
              <a:rPr b="1" i="1" lang="pl-PL" sz="2600" spc="-1" strike="noStrike" u="sng">
                <a:solidFill>
                  <a:srgbClr val="000000"/>
                </a:solidFill>
                <a:uFillTx/>
                <a:latin typeface="Arial"/>
              </a:rPr>
              <a:t>bilansu azotowego</a:t>
            </a: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5.Ocena wydolności poszczególnych narządów: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pl-PL" sz="2500" spc="-1" strike="noStrike">
                <a:solidFill>
                  <a:srgbClr val="000000"/>
                </a:solidFill>
                <a:latin typeface="Arial"/>
              </a:rPr>
              <a:t>a) nerek : stężenie kreatyniny, mocznika w surowicy,  </a:t>
            </a:r>
            <a:br>
              <a:rPr sz="2500"/>
            </a:br>
            <a:r>
              <a:rPr b="1" i="1" lang="pl-PL" sz="2500" spc="-1" strike="noStrike">
                <a:solidFill>
                  <a:srgbClr val="000000"/>
                </a:solidFill>
                <a:latin typeface="Arial"/>
              </a:rPr>
              <a:t>  osmolarności moczu</a:t>
            </a:r>
            <a:br>
              <a:rPr sz="2500"/>
            </a:br>
            <a:r>
              <a:rPr b="1" i="1" lang="pl-PL" sz="2500" spc="-1" strike="noStrike">
                <a:solidFill>
                  <a:srgbClr val="000000"/>
                </a:solidFill>
                <a:latin typeface="Arial"/>
              </a:rPr>
              <a:t> b) wątroby:     aktywność enzymów ASPAT, ALAT,  </a:t>
            </a:r>
            <a:br>
              <a:rPr sz="2500"/>
            </a:br>
            <a:r>
              <a:rPr b="1" i="1" lang="pl-PL" sz="2500" spc="-1" strike="noStrike">
                <a:solidFill>
                  <a:srgbClr val="000000"/>
                </a:solidFill>
                <a:latin typeface="Arial"/>
              </a:rPr>
              <a:t> stężenie bilirubin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PREPARATY STOSOWANE W ŻYWIENIU POZAJELITOWYM</a:t>
            </a:r>
            <a:br>
              <a:rPr sz="2800"/>
            </a:br>
            <a:br>
              <a:rPr sz="28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Wyróżnia się 6 podstawowych preparatów: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1.Aminokwasy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2.Węglowodany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3.Emulsje tłuszczow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4.Elektrolity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5.Pierwiastki śladowe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6.Witamin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</a:rPr>
              <a:t>Węglowodany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dstawowym źródłem węglowodanów jest   glukoza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artość energetyczna  1 g glukozy  = 4 kcal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alecana dobowa podaż : 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 dorosłych     4 - 7 g / kg m. c. / dobę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u dzieci             8 - 15 g / kg m. c. /dobę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zybkość infuzji         0,5 g/ kg m. c./ dobę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sulina    5 -10 j / 100g gluko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 żywieniu pozajelitowym stosuje się glukozę w stężeniach: 10%, 20%, 40%, 70%.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000 ml 10% glukozy    -  100 g glukozy   -     400 kcal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1000 ml 20% glukozy    -  200 g glukozy   -     800 kcal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1000 ml 40% glukozy    -  400 g glukozy   -     1600 kcal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1000 ml 70% glukozy    -  700 g glukozy   -     2400 k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Emulsje tłuszczowe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Służą zasadniczo jako źródło energii, a oprócz tego dostarczają NNKT ( linolowy i linolenowy), fosfolipidy i wit.E.</a:t>
            </a:r>
            <a:br>
              <a:rPr sz="2700"/>
            </a:b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Charakteryzują się ;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- niską osmolarnością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- wysoką kalorycznością     ( 1,1 - 2 kcal / 1 ml)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   Wartość energetyczna  1 g tłuszczu   =  9 kcal 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   Fosfolipidy są źródłem fosforanów w ilości 15 mmol/ Zalecana dobowa podaż   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                             u dorosłych   1 -2 g / kg m. c. / dobę 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                             u dzieci    do  3 g / kg m. c. /dob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Występują w postaci  10%  i 20% roztworów;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Intralipid  10%                           Intralipid 20%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1000 ml - 1100 kcal                    1000 ml - 2000 kcal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500 ml - 550 kcal                        500 ml - 1000 kcal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  Najczęściej stosowanymi emulsjami tłuszczowymi są;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Intralipid    (st. od 1961r ) -  emulsja oleju sojowego, a emulgatorem są fosfolipidy jaja kurzego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Ivelip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Lipovenoes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Lipofundin MCT/LCT- mieszanina 1: 1 długołańcuchowych kw. tłuszczowych LCT                                       i średniołańcuchowych kw. tłuszczowych MCT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Lipofundin 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Aminokwasy</a:t>
            </a:r>
            <a:br>
              <a:rPr sz="2800"/>
            </a:b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Roztwory aminokwasów służą do dostarczenia organizmowi aminokwasów potrzebnych do syntezy białek.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Zalecana dobowa podaż   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              u dorosłych        1 -2 g / kg m. c. / dobę 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              u dzieci              1 - 2,5 g / kg m. c. /dobę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Obecnie produkowane są </a:t>
            </a:r>
            <a:r>
              <a:rPr b="1" i="1" lang="pl-PL" sz="2700" spc="-1" strike="noStrike" u="sng">
                <a:solidFill>
                  <a:srgbClr val="000000"/>
                </a:solidFill>
                <a:uFillTx/>
                <a:latin typeface="Arial"/>
              </a:rPr>
              <a:t>roztwory standardowe aminokwasów </a:t>
            </a: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przeznaczone do żywienia chorych bez zaburzeń metabolicznych białka produkowane w różnych stężeniach i wersjach z dodatkiem lub bez elektrolitów: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Aminomel 10%, 12%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Aminosteril KE 10%</a:t>
            </a:r>
            <a:br>
              <a:rPr sz="2700"/>
            </a:b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Vamin 14 EF , 18 E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oraz  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roztwory aminokwasów o specjalnym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przeznaczeniu np.: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- w niewydolności wątroby ;                              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Salvamin hepar ,  Aminosteril N-Hepa 8%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- w niewydolności  nerek;     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Aminomel nephro, Nephrotect 10%, salvamin 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nephro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- roztwory aminokwasów pediatrycznych; 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Primene 5%, 10%, Aminoven infant 6%,10%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Aminoplasmal pead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Witaminy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Cernevit  - nie zawiera wit. K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Soluvit N - zawiera wit. rozpuszczalne w wodzie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Vitalipid N Adult - zawiera wit. rozpuszczalne w  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tłuszczach dla dorosłych i dzieci powyżej 11 lat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Vitalipid N  Infant - zawiera wit. rozpuszczalne w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tłuszczach dla dzieci do lat 11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Witamina C, B,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Pierwiastki śladowe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W czasie ż. p. st. się mieszaniny pierwiastków śladowych pokrywające podstawowe zapotrzebowanie lub preparaty poszczególnych pierwiastków w celu pokrycia zwiększonego zapotrzebowania.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Addamel N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Tracu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82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Rodzaje żywienia pozajelitowego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1.Całkowite żywienie pozajelitowe, którego zadaniem jest dostarczenie wszystkich składników odżywczych, w proporcjach zgodnych z aktualnym zapotrzebowaniem organizmu (st. gdy żywienie drogą p.p. jest niemożliwe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Elektrolity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Calcium chloratum 10%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Magnesium chloratum 10%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Kalium chloratum 10%, 15%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Natrium chloratum 10%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Addiphos- źródło fosforanów   ( 1ml zawiera 2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mmol fosforanó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Preparaty kompletnych mieszanin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Preparaty worków  2- komorowych: Aminomix,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Salvamin dual bag, Nutriflex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paraty worków 3- komorowych: Compleven,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linomel, Kab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l-PL" sz="3200" spc="-1" strike="noStrike">
                <a:solidFill>
                  <a:srgbClr val="ff5050"/>
                </a:solidFill>
                <a:latin typeface="Arial"/>
              </a:rPr>
              <a:t>Dodatki (substancje celowo dodane) do żywienia pozajelitowego.</a:t>
            </a:r>
            <a:br>
              <a:rPr sz="3200"/>
            </a:b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1. Insulina krótkodziałająca</a:t>
            </a: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2. Omega 3  kwasy tłuszczowe (Omegawen)</a:t>
            </a: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3. Aminokwasy o specjalnym przeznaczeniu:</a:t>
            </a: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 glutamina (Dipeptiven, Glamin)</a:t>
            </a:r>
            <a:br>
              <a:rPr sz="3200"/>
            </a:b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4. Leki : np. Cymetydy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Zasady praktycznego liczenia zapotrzebowania organizmu na dobę u chorych </a:t>
            </a:r>
            <a:r>
              <a:rPr b="1" i="1" lang="pl-PL" sz="2700" spc="-1" strike="noStrike">
                <a:solidFill>
                  <a:srgbClr val="ff5050"/>
                </a:solidFill>
                <a:latin typeface="Arial"/>
              </a:rPr>
              <a:t>odżywianych droga pozajeltową;</a:t>
            </a:r>
            <a:br>
              <a:rPr sz="2700"/>
            </a:b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1. Aminokwasy: 0.8- 2 g/ kg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2. Azot: 0.11- 0.2 (0.25) g/ kg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Energia: 25- 35 kcal/ kg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Q= 130 –180 kcal/ N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5. Woda 30- 40 ml/ kg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6. Węglowodany: 50 –65% energii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7. Tłuszcze: 35- 50% energii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8. Dobowe pokrycie zapotrzebowania na elektrolity,  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    witaminy, pierwiastki śladowe</a:t>
            </a:r>
            <a:br>
              <a:rPr sz="2700"/>
            </a:br>
            <a:r>
              <a:rPr b="1" i="1" lang="pl-PL" sz="2700" spc="-1" strike="noStrike">
                <a:solidFill>
                  <a:srgbClr val="000000"/>
                </a:solidFill>
                <a:latin typeface="Arial"/>
              </a:rPr>
              <a:t>9. Insulina: 1j na 5-10 g glukoz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1341360"/>
            <a:ext cx="1332000" cy="2735280"/>
          </a:xfrm>
          <a:custGeom>
            <a:avLst/>
            <a:gdLst>
              <a:gd name="textAreaLeft" fmla="*/ 178200 w 1332000"/>
              <a:gd name="textAreaRight" fmla="*/ 1153800 w 1332000"/>
              <a:gd name="textAreaTop" fmla="*/ 478440 h 2735280"/>
              <a:gd name="textAreaBottom" fmla="*/ 1983240 h 27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88000" y="1449360"/>
            <a:ext cx="1332000" cy="2556000"/>
          </a:xfrm>
          <a:custGeom>
            <a:avLst/>
            <a:gdLst>
              <a:gd name="textAreaLeft" fmla="*/ 178200 w 1332000"/>
              <a:gd name="textAreaRight" fmla="*/ 1153800 w 1332000"/>
              <a:gd name="textAreaTop" fmla="*/ 447120 h 2556000"/>
              <a:gd name="textAreaBottom" fmla="*/ 1853280 h 25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206064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DŻYWIANIE DROGĄ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ZAJELITOW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pl-PL" sz="3200" spc="-1" strike="noStrike">
                <a:solidFill>
                  <a:srgbClr val="ff5050"/>
                </a:solidFill>
                <a:latin typeface="Arial"/>
              </a:rPr>
              <a:t>Rodzaje żywienia pozajelitowego:</a:t>
            </a:r>
            <a:br>
              <a:rPr sz="3200"/>
            </a:br>
            <a:br>
              <a:rPr sz="32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2.Częściowe żywienie pozajelitowe, którego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zadaniem najczęściej jest pokrycie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zapotrzebowania organizmu chorego na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węglowodany (odpowiednia podaż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węglowodanów zapobiega rozwojowi kwasicy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ketonowej oraz chroni białka mięśniowe przed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wykorzystaniem na drodze glukoneogenezy) lub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uzupełnienie niedoborów aminokwasów (st. gdy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żywienie drogą p.p. jest niewystarczają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Najczęstsze wskazania do żywienia pozajelitowego: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1. W okresie okołooperacyjnym: 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- przed operacją: brak możliwości wyrównania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zaburzeń stanu odżywienia (niedożywienie,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wyniszczenie) drogą enteralną - konieczność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hiperalimentacji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- po operacji: kontynuacja żywienia 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przedopereacyjnego, powikłania (np. przetoka,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ropień, itp.) jeżeli nie jest możliwe włączenie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diety dojelitowej pokrywającej co najmniej 60%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dobowego zapotrzebowania białkowo-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energetycznego w ciągu najbliższych 6 d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l-PL" sz="2800" spc="-1" strike="noStrike">
                <a:solidFill>
                  <a:srgbClr val="ff5050"/>
                </a:solidFill>
                <a:latin typeface="Arial"/>
              </a:rPr>
              <a:t>Najczęstsze wskazania do żywienia pozajelitowego:</a:t>
            </a: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2. Ostre zapalenie trzustki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3. Zespół jelita krótkiego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4. Stany przebiegające z hiperkatabolizmem (rozległe oparzenia, posocznica)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5.Okres chemio- i radioterapii z powodu nowotworów zaawansowan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6.Śpiączki różnego rodzaju, zaburzenia i urazy OUN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7. Wady wrodzone dotyczące  układu pokarmowego u noworodków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1449360"/>
            <a:ext cx="7345440" cy="3492360"/>
          </a:xfrm>
          <a:prstGeom prst="cloudCallout">
            <a:avLst>
              <a:gd name="adj1" fmla="val -48162"/>
              <a:gd name="adj2" fmla="val 7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7280" y="1088640"/>
            <a:ext cx="709308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APOTRZEBOWANI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NA ENERGIĘ I SKŁADNIKI   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        POKARMOW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100000">
              <a:srgbClr val="2d5a8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ff0000"/>
                </a:solidFill>
                <a:latin typeface="Arial"/>
              </a:rPr>
              <a:t>Zapotrzebowanie na energię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TEORIA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Wzór Harrisa-Benedicta: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Spoczynkowe Zapotrzebowanie Energetyczne (SZE)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8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dla mężczyzn: SZE=  66,4 +  (13,7x W) + (5 x H) - (6,7 x A)</a:t>
            </a:r>
            <a:br>
              <a:rPr sz="2600"/>
            </a:b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dla kobiet:  SZE= 655,1 + (9,6 x W) + (1,8 x H) - (4,7 x A)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gdzie: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W- masa ciała w  kg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H- wzrost w  cm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A- wiek w lat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9:09:34Z</dcterms:created>
  <dc:creator>Agata Skop</dc:creator>
  <dc:description/>
  <dc:language>en-US</dc:language>
  <cp:lastModifiedBy>Marlena</cp:lastModifiedBy>
  <dcterms:modified xsi:type="dcterms:W3CDTF">2008-10-03T20:15:14Z</dcterms:modified>
  <cp:revision>68</cp:revision>
  <dc:subject/>
  <dc:title>Slajd 1</dc:title>
</cp:coreProperties>
</file>