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600-C7F5-445E-9BD6-86C84482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9E0-F9CF-4BB4-AEF1-75EF4698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99A-8441-4103-98AE-F15DAD53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ECD-2889-41FB-BFD4-05C30FD5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F06C-010F-4CB8-8D9E-C144BB702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ADCB-AB9F-4654-ABB1-EC81F1EC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5A00-0ECC-4F8F-976D-F4BE2226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605F-8575-442F-9DB2-D140E59F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2B8-A8B7-457C-A800-DB8875B0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1E88-266E-4A62-B81C-19C83C32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E619-541F-43AB-A467-C23248AA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483-3985-4283-B9B3-A143574D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7766-CAB7-4A8D-B24F-73DD35A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98C8-5D3D-47DE-B46B-796F938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1BC5-AB03-4EBD-9D0E-3A980741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C3E1-CF68-403F-8742-78A4D6E4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629E-E898-4918-85D0-246A30E8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4A9-7A76-499C-8BE2-00DACC37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B341-C6B2-43A0-8F7A-9EAE47F8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F1A-1250-4531-8D9D-90CF5CA8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85B-1A50-4837-84C2-A3FFE51B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B10-F157-435B-91D6-61869B21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47D-7346-4DA2-BBDC-241D625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739-5563-4578-ADE1-86790132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092E-7EA8-4AF0-8635-5E129948C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9E36-5D52-4189-BF48-008A2D677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7200" spc="-1" strike="noStrike">
                <a:solidFill>
                  <a:srgbClr val="ffcc66"/>
                </a:solidFill>
                <a:latin typeface="Arial"/>
              </a:rPr>
              <a:t>Żywienie ciężko chorych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cc66"/>
                </a:solidFill>
                <a:latin typeface="Verdana"/>
              </a:rPr>
              <a:t>Pacjenci z ryzykiem wystąpienia niedożywieni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&gt; 5-10% utrata masy ciała w ciągu 3-6 ostatnich m-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&gt; 5 dni bez doustnego przyjmowania  pokarm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różne stany:  nowotwór, zaburzenia wchłaniania,        zaburzenia połykania, przewlekłe choroby zapalne, rozległe operacje, urazy, stres metaboliczny, sepsa, AID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BMI = 18,5 – 20 kg/m</a:t>
            </a:r>
            <a:r>
              <a:rPr b="0" lang="pl-PL" sz="2000" spc="-1" strike="noStrike" baseline="30000">
                <a:solidFill>
                  <a:srgbClr val="ffff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przedłużająca się utrata składników odżywczych (wymioty, biegun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Rodzaje niedożywienia (1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1.   Niedożywienie typu marasm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2.   Niedożywienie typu kwashiork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3.   Niedożywienie typu mieszane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4.   Postać ostra niedożywi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5.   Postać przewlekła niedożywi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Rodzaje niedożywienia (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Verdana"/>
              </a:rPr>
              <a:t>Niedożywienie typu marasm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00"/>
                </a:solidFill>
                <a:uFillTx/>
                <a:latin typeface="Verdana"/>
              </a:rPr>
              <a:t>Przyczyna: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przewlekłe, niepowikłane głodzeni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00"/>
                </a:solidFill>
                <a:uFillTx/>
                <a:latin typeface="Verdana"/>
              </a:rPr>
              <a:t>Objawy: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spadek masy ciała i wskaźników antropometrycznyc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i immunologiczny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prawidłowe stężenie białka i albumin w surowicy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stężenie białka i albumin w surowicy krwi ulega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obniżeniu w krańcowym stadium niedożywien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00"/>
                </a:solidFill>
                <a:uFillTx/>
                <a:latin typeface="Verdana"/>
              </a:rPr>
              <a:t>Leczenie żywieniowe: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dojelitowe (doustne lub prz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zgłębnik).</a:t>
            </a:r>
            <a:r>
              <a:rPr b="0" lang="pl-PL" sz="32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Rodzaje niedożywienia (3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Verdana"/>
              </a:rPr>
              <a:t>Niedożywienie typu kwashiork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00"/>
                </a:solidFill>
                <a:uFillTx/>
                <a:latin typeface="Verdana"/>
              </a:rPr>
              <a:t>Przyczyny: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duży uraz, rozległa operacja, zakażeni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00"/>
                </a:solidFill>
                <a:uFillTx/>
                <a:latin typeface="Verdana"/>
              </a:rPr>
              <a:t>Objawy: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spadek stężenia białek w surowicy, albumin,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transferyny, prealbumi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spadek ilości limfocytów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wskaźniki antropometryczne w normi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obrzęki i zaburzenia gospodarki elektrolitowej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00"/>
                </a:solidFill>
                <a:uFillTx/>
                <a:latin typeface="Verdana"/>
              </a:rPr>
              <a:t>Leczenie żywieniowe: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w postaciach lżejszych – żywienie dojelitowe, w cięższych żywienie pozajelitow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Verdana"/>
              </a:rPr>
              <a:t>Rodzaje niedożywienia (4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00"/>
                </a:solidFill>
                <a:latin typeface="Verdana"/>
              </a:rPr>
              <a:t>Niedożywienie typu mieszan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00"/>
                </a:solidFill>
                <a:uFillTx/>
                <a:latin typeface="Verdana"/>
              </a:rPr>
              <a:t>Przyczyn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u przewlekle chorych hiperkatabolicznych   po urazie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     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ciężkiej operacj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00"/>
                </a:solidFill>
                <a:uFillTx/>
                <a:latin typeface="Verdana"/>
              </a:rPr>
              <a:t>Objawy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spadek masy ciała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spadek stężenia białek w surowicy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spadek ilości limfocytów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- zaburzenia gospodarki wodno-elektrolitycznej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ff00"/>
                </a:solidFill>
                <a:uFillTx/>
                <a:latin typeface="Verdana"/>
              </a:rPr>
              <a:t>Leczenie żywieniowe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 zależy od wielkości urazów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i przewagi jednego z rodzajów niedożywien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Rodzaje niedożywienia (5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00"/>
                </a:solidFill>
                <a:latin typeface="Verdana"/>
              </a:rPr>
              <a:t>Postać ostra niedożywi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Może być wynikiem katabolizmu związanego z ostrą chorobą lub poważnym zabiegiem operacyjny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Znaczny spadek poziomu białka zapoczątkowany przez hormony stresu (aminy katecholow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Trudno rozpoznać u pacjentów cechy niedożywi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Pacjenci mają często obrzęk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Rodzaje niedożywienia (6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Postać przewlekła niedożywi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Rezultat głównie chorób przewlekłych z niedostatecznym przyjmowaniem pożywien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trofia ciał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rzyczyna to długo trwające zaburzenia odżywiania (głównie białkowe i energetyczn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astępstwa niedożywien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1447920"/>
          <a:ext cx="7772400" cy="3809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36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Utrata masy ciał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mniejszenie masy mięśniowe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Osłabienie i pogorszenie samopoczu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większone ryzyko wystąpieni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pale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mniejszenie wydolności ser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Osłabienie aktywności ruchowe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padek odpornośc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Gorsze wyniki lecze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większone ryzyko infekcj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Dłuższy pobyt w szpital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Dłuższa rehabilitacj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Gorsze ukrwienie skó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Utrudnione gojenie r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większone ryzyko wystąpienia odleży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anik błony śluzowej jel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mniejszone wytwarzanie enzymó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Zmniejszone wchłanian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200400" y="5257800"/>
            <a:ext cx="2705040" cy="1447920"/>
          </a:xfrm>
          <a:custGeom>
            <a:avLst/>
            <a:gdLst>
              <a:gd name="textAreaLeft" fmla="*/ 0 w 2705040"/>
              <a:gd name="textAreaRight" fmla="*/ 2705400 w 2705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6248520"/>
            <a:ext cx="37497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Wyższe koszty leczenia</a:t>
            </a:r>
            <a:r>
              <a:rPr b="1" lang="pl-PL" sz="20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Definicja niedożywienia (1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cc66"/>
                </a:solidFill>
                <a:latin typeface="Verdana"/>
              </a:rPr>
              <a:t>Niedożywieni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ffcc66"/>
                </a:solidFill>
                <a:latin typeface="Verdana"/>
              </a:rPr>
              <a:t>Stan który rozwija  się z powodu   niedostatecznego przyswajania  lub nadmiernych strat  substancji odżywczych,  niezbędnych do utrzymania zdrowia tkanek i czynności organów i narządó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cc66"/>
                </a:solidFill>
                <a:latin typeface="Verdana"/>
              </a:rPr>
              <a:t>(dr hab. n. med. Marek Pertkiewic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Niedożywienie (2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Verdana"/>
              </a:rPr>
              <a:t>Jest chorob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Rozpoznaje je międzynarodowa klasyfikac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chorób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E 40 - Kwashiork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E 41 – Wyniszczenie z niedożywi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E 42 -  Kwashiorkor z wyniszczeni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E 64 – Następstwa niedożywi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Niedożywienie (3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Występowanie niedożywienia u przeciętn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acjen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 izbie przyjęć u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 szpitalu stan odżywienia pogarsza się u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7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pośród 10% wyniszczonych umier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0-4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pośród wypisanych do domu pacjentów objawy niedożywienia wykazuj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0-50%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yleczonych z choroby umiera z głodu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8-1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Niedożywienie (4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Rozpoczyna się w dom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Jest nierozpoznane i nielecz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Nasila się w szpital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Wydłuża czas hospitalizacji, zwiększa częstość powikłań, śmiertelność i koszty leczen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00"/>
                </a:solidFill>
                <a:latin typeface="Verdana"/>
              </a:rPr>
              <a:t>Pogarsza rokowanie po wypisie ze szpita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rzyczyny niedożywienia (1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Problemy z przyjmowaniem pokarmów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mniejszy apety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kłopoty z połykani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hore zę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bó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Zmieniony metaboliz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oparze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horo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zabiegi opera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rzyczyny niedożywienia (2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00"/>
                </a:solidFill>
                <a:latin typeface="Verdana"/>
              </a:rPr>
              <a:t>Duża utrata składników odżywczych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zaburzenia wchłanian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wymioty 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biegunk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przetok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oparzen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odleżyny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ileostomi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utrata krw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ucieczka przez nerk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ffff00"/>
                </a:solidFill>
                <a:latin typeface="Verdana"/>
              </a:rPr>
              <a:t>uboczne skutki leków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rzyczyny niedożywienia (3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00"/>
                </a:solidFill>
                <a:latin typeface="Verdana"/>
              </a:rPr>
              <a:t>Przyczyny niedożywienia szpitalneg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chorob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brak zainteresowania ze strony personel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brak odpowiedzialności – kto odpowiada za żywienie chorych 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brak organizac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brak wiedz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00"/>
                </a:solidFill>
                <a:latin typeface="Verdana"/>
              </a:rPr>
              <a:t>niska jakość jedze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66"/>
                </a:solidFill>
                <a:latin typeface="Verdana"/>
              </a:rPr>
              <a:t>                                            </a:t>
            </a:r>
            <a:r>
              <a:rPr b="0" lang="pl-PL" sz="1400" spc="-1" strike="noStrike">
                <a:solidFill>
                  <a:srgbClr val="ffcc66"/>
                </a:solidFill>
                <a:latin typeface="Verdana"/>
              </a:rPr>
              <a:t>(Komisja Ekspertów Rady Europy, Strasbourg,  200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Przyczyny niedożywienia (4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Zaburzenia odżywienia spowodowane chorobą wynikają 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braku równowagi pomiędzy przyjmowanym pożywieniem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 zapotrzebowaniem chorego organizm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191120"/>
            <a:ext cx="2487600" cy="14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mag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żywieniow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 utrata składnikó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odżywczy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3657600"/>
            <a:ext cx="23209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rzyjmowan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pożywie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24240" y="5410080"/>
            <a:ext cx="914400" cy="1143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362320" y="4723920"/>
            <a:ext cx="476064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17:21:48Z</dcterms:created>
  <dc:creator>jac</dc:creator>
  <dc:description/>
  <dc:language>en-US</dc:language>
  <cp:lastModifiedBy>jac</cp:lastModifiedBy>
  <dcterms:modified xsi:type="dcterms:W3CDTF">2009-08-03T19:07:36Z</dcterms:modified>
  <cp:revision>5</cp:revision>
  <dc:subject/>
  <dc:title>Żywienie ciężko chorych</dc:title>
</cp:coreProperties>
</file>