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392-BDCC-46F4-B084-4F69106C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3A3-AA5C-4FDA-90B1-D7C93E04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2A1-1BB3-4DE7-91AF-39F38FE4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180-6288-4AE2-B35E-B6766328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19D-0696-497F-9C25-68F58020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33C-97D0-42D4-A9BB-B9C91BC4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1AC9-8899-4D27-BB69-AFDCB505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B47-02D3-4E88-92DF-A63EC93E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F82A-C077-4CE6-BB09-5666C8ED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A60-355C-403F-9C17-FADAAE61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557-4317-442A-9263-FCCA241D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3F4-5A3C-4B55-B73A-D10B1CED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30D4-5168-46A3-890A-BE3332B2847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amorząd na poziomie powia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r Andrzej Micha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odejmowanie decyzji w Radz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chwała podejmowana zwykłą większością głos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cą RP kieruje przewodniczący a w przypadku jego nieobecności wyznaczony zastępca, zaś w przypadku braku tych osób najsłabszy wiekiem ra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oże być on odwołany większością głosów na wniosek ¼ składu r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Zwołanie R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ada zwoływana jest przez przewodniczącego przynajmniej raz na kwartał (możliwość zmiany programu obrad bezwzględną większością głosó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 wniosek zarządu lub co najmniej ¼ ustawowego składu rady powiatu przewodniczący obowiązany jest zwołać sesję na dzień przypadający wciągu 7dni od dnia złożenia wnio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Zmiana porządku obr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wniosek starosty kierowany do przewodniczącego RP poprzez wprowadzenie stosownego projektu uchwał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 wniosek klubu radnych przewodniczący rady powiatu jest obowiązany wprowadzić do porządku obrad najbliższej sesji rady powiatu projekt uchwały, zgłoszony przez klub radnych, jeżeli wpłynął on do rady powiatu co najmniej 7 dni przed dniem rozpoczęcia sesji ra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omisja Rewizyj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kłada się z przedstawicieli wszystkich klubów radn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piniowanie budżetu i występowanie z wnioskiem do RP o nieudzielenie absolutor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ealizacja innych zadań kontrolnych zleconych przez 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nne komisje- możliwość powołania innych komisji doraźny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Uprawnienia kontrolne radn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dentyczne jak w przypadku radnych RG (???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awo do interpelac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graniczenia wykonywania mandatu radn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andatu radnego powiatu nie można łączyć 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1)mandatem posła lub senator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2)wykonywaniem funkcji wojewody lub wicewojewod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3)członkostwem w organie innej jednostki samorządu terytorial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chrona radn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o do zwolnienia wykonywania pracy na czas pełnienia obowiąz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goda rady na rozwiązanie stosunku p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kaz nawiązana pracy w starostwie (nie dotyczy członków zarządu z wybor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kaz pełnienia w starostwie i jednostkach podległych funkcji kierownicz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kaz zawarcia umowy cywilnoprawnej ze starostw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kaz przyjmowania darowi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kaz powoływania się na pełnienie manda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chrona radn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kaz działalności gospodarczej na własny rachunek lub wspólnie z innymi osobami z wykorzystaniem mienia powiatu, w którym radny uzyskał mandat, a także zarządzać taką działalnością lub być przedstawicielem czy pełnomocnikiem wprowadzeniu takiej działalnoś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bowiązek zaprzestania takiej działalności w terminie 3 miesięcy od przyjęcia ślubow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Zarząd Powia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rgan kolegialny wybieranym w liczbie od 3 do 5 osób przez R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kłada się ze starosty, zastępcy i członk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złonkiem organu nie może być osoba nie posiadająca obywatelstwa polskie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złonkostwa w organie nie można łączyć z: mandatem posła i senatora, udziale w organie innej JST, zatrudnieniem w administracji rządow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ybór Starosty i zastępcó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P wybiera starostę bezwzględną większością głosów ustawowego składu rady, w głosowaniu taj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P wybiera wicestarostę oraz pozostałych członków zarządu na wniosek starosty zwykłą większością głosów w obecności co najmniej połowy ustawowego składu rady, w głosowaniu taj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yboru Zarządu w ciągu 3 miesięcy od ogłoszenia wyników wyborów prowadzi do rozwiązania RP z mocy prawa. Do czasu przedterminowych wyborów funkcję organu pełni osoba wyznaczona przez P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owi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anowi wspólnotę mieszkańców zamieszkujących dane teryto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siada własną osobowość prawn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dlega ochronie sądow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wołanie Zarzą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Brak uzyskania absolutorium z działalności Zarzą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Brak przyjęcia raportu o stanie powia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dwołanie następuje wielkością 3/5 głosów R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wołanie Staros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 wniosek ¼ członków rady zaopiniowany pozytywnie przez komisję rewizyjn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dwołanie starosty następuje większością co najmniej 3/5 głosów ustawowego składu rady, w głosowaniu tajn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łożenie rezygnacji przez Starostę jest równoznaczne ze złożeniem takiej rezygnacji przez cały Zarzą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Rezygnacja czło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P przyjmuje jego rezygnacj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arosta zobowiązany jest przedstawić kandydata na następc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bowiązki Zarzą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raportu o stanie powia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pełnianie zada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przygotowywanie projektów uchwał rad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wykonywanie uchwa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opracowywanie programów rozwoju w trybie określonym w przepisach o zasadach prowadzenia polityki rozwoj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gospodarowanie mieniem powia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wykonywanie budżetu powia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zatrudnianie i zwalnianie kierowników jednostek organizacyjnych powia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ompetencje Staro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ieruje bieżącymi sprawami powi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racowuje plan operacyjny w przypadku zagrożenia klęskami żywiołowy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sprawach niecierpiących zwłoki, związanych z zagrożeniem interesu publicznego, zagrażających bezpośrednio zdrowiu i życiu oraz w sprawach mogących spowodować znaczne straty materialne starosta podejmuje niezbędne czynności należące do właściwości zarządu powiatu-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bowiązek zatwierdzenia działań na najbliższym posiedzeniu Z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owiatowa administracja zespolo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1)starostwo powiatow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2)powiatowy urząd pracy, będący jednostką organizacyjną powiatu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3)jednostki organizacyjne stanowiące aparat pomocniczy kierowników powiatowych służb, inspekcji i straż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tarosta jako kierownik służ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wołuje i odwołuje kierowników tych jednostek, w uzgodnieniu z wojewodą, a także wykonuje wobec nich czynności w sprawach z zakresu prawa pracy, jeżeli przepisy szczególne nie stanowią inaczej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twierdza programy ich działan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zgadnia wspólne działanie tych jednostek na obszarze powia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sytuacjach szczególnych kieruje wspólnymi działaniami tych jednoste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leca w uzasadnionych przypadkach przeprowadzenie kontr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Skład Komisj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rosta jako przewodniczący komisj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wóch radnych delegowanych przez radę powia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zy osoby powołane przez starostę spośród osób wyróżniających się wiedzą o problem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wóch przedstawicieli delegowanych przez komendanta powiatowego (miejskiego) Policj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kura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dencja 3 lata, możliwość odwołania członka w trakcie kadenc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omisja ds. bezpieczeństw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mpetenc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ocena zagrożeń porządku publicznego i bezpieczeństwa obywateli na terenie powiat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opiniowanie pracy Policji i innych powiatowych służb, inspekcji i straży, a także jednostek organizacyjnych wykonujących na terenie powiatu zadania z zakresu porządku publicznego i bezpieczeństwa obywatel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przygotowywanie projektu powiatowego programu zapobiegania przestępczości oraz porządku publicznego i bezpieczeństwa obywatel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opiniowanie projektów innych programów współdziałania Policji i innych powiatowych służb, inspekcji i straży oraz jednostek organizacyjnych wykonujących na terenie powiatu zadania z zakresu porządku publicznego i bezpieczeństwa 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Akty prawa miejscow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kres wydania określają usta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ożliwość wydawania aktów porządkowy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 wydaniu aktu należy zawiadomić organy niższego rzę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worzenie i znoszenie powiató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stępuje decyzją RM w drodze rozporządze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cedura wszczynana jest na wniosek RP lub z własnej inicjaty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ymaga konsultacji RP lub Sejmikiem w przypadku przesunięcia granic między województwami (w przypadku braku odpowiedzi konsultacje uważa się za spełnione po 3 miesiąc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bywatelska inicjatywa uchwałodawc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Grupa mieszkańcó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powiecie do 100 000 mieszkańców –co najmniej 300 osó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powiecie powyżej 100 000 mieszkańców –co najmniej 500 osó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nieczność dostarczenia uchwały i rozpatrzenia w terminie 3 miesięcy od złoż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ożliwość wyznaczenia osób do reprezentowania komite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Mienie powia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bycie następuje na podstawie ustaw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odrębne przepisy w przypadku gdy pierwszeństwo nie przysługuje gmi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utworzenie lub zmianie granic powi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na podstawie porozumi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darowizna lub inne czynności praw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zyjmowanie oświadczeń- członkowie zarządu lub członek zarządu i uprawniony pracownik (obciążenia majątkowe- kontrasygnat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Nadzór nad działalnością powia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ojewoda – zgodność z praw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IO- gospodarka finansow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owiązek przekazania uchwał przez  starostę do Wojewody w terminie 7 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chwała sprzeczna z prawem jest nieważna- rozstrzygnięcie nadzorcze w terminie 30 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ość wstrzymana wykonania uchwały w trakcie postępowania lub po doręczeniu rozstrzygnię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 można zaskarżyć uchwały po upływie roku o jej uchwaleniu (chyba że nie dokonano procedury zgłosze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Nadzór nad działalnością powia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ejm- naruszenie ustaw lub konstytucji – rozwiązanie RP przy pomocy uchwały. W tym czasie zadania może realizować osoba wyznaczona przez PRM. Jest to równoważne z rozwiązaniem Zarzą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M- odwołanie Zarządu w przypadku postarzających się naruszeń prawa po uprzednim wezwaniu Rady do wprowadzenia czynności kontrol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M- możliwość zawieszenia organów na okres 2 l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Uprawnienia nowych jedno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stąpienie w prawa i obowiązki poprzedników prawn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rgany po połączeniu stają się stronami wszystkich prowadzonych postępowa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ejęcie obowiązków wynikających z aktów prawa miejscowego maks do 3 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Zadania powiatu dotycz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dukacji publicznej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mocji i ochrony zdrow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mocy społecznej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spierania rodziny i systemu pieczy zastępczej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lityki prorodzinn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spierania osób niepełnosprawnych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ransportu zbiorowego i dróg publicznych; inne (??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Zadania zlec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ealizowanie na podstawie ustaw lub porozumie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ożliwość przekazania części zadań na niższy poziom na zasadzie porozumi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la realizacji powyższych zadań można powołać wspólne jednostki organizacyj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grany powia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ada Powiatu-organ uchwałodawc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rząd Powiatu- organ wykonawcz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rgany działają zgodnie z zasadą jawności chyba, że przepisy szczególne stanowią inacz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Rada Powia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adni wybierani w wyborach bezpośredn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kład rady powiatu wchodzą radni w liczbie piętnastu w powiatach liczących do 40000 mieszkańców oraz po dwóch na każde kolejne rozpoczęte 20000 mieszkańców, ale nie więcej niż dwudziestu dziewięciu radn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dwołanie Rady następuje w drodze referend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Kompetencje 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anowienie aktów prawa miejscowego, w tym statutu powiat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bór i odwołanie zarządu oraz ustalanie wynagrodzenia jego przewodnicząceg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woływanie i odwoływanie, na wniosek starosty, skarbnika powiatu, będącego głównym księgowym budżetu powiat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anowienie o kierunkach działania zarządu powiatu oraz rozpatrywanie sprawozdań z działalności zarządu, w tym z działalności finansowej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chwalanie budżetu powiat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atrywanie sprawozdania z wykonania budżetu oraz podejmowanie uchwały w sprawie udzielenia lub nieudzielenia absolutorium dla zarządu z tego tytuł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zpatrywanie raportu o stanie powiatu oraz podejmowanie uchwały w sprawie udzielenia lub nieudzielenia wotum zaufania dla zarządu z tego tytuł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09:14:18Z</dcterms:created>
  <dc:creator>Michalik</dc:creator>
  <dc:description/>
  <dc:language>en-US</dc:language>
  <cp:lastModifiedBy>Michalik Andrzej</cp:lastModifiedBy>
  <dcterms:modified xsi:type="dcterms:W3CDTF">2020-02-23T13:16:26Z</dcterms:modified>
  <cp:revision>33</cp:revision>
  <dc:subject/>
  <dc:title>Legislacja administracyjna na poziomie powiatu</dc:title>
</cp:coreProperties>
</file>